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26.png" ContentType="image/png"/>
  <Override PartName="/ppt/media/image13.wmf" ContentType="image/x-wmf"/>
  <Override PartName="/ppt/media/image8.jpeg" ContentType="image/jpeg"/>
  <Override PartName="/ppt/media/image9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1.jpeg" ContentType="image/jpeg"/>
  <Override PartName="/ppt/media/image15.wmf" ContentType="image/x-wmf"/>
  <Override PartName="/ppt/media/image23.jpeg" ContentType="image/jpeg"/>
  <Override PartName="/ppt/media/image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ED5-5128-4180-9944-43D9DEC0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D6D-D9AE-4AC0-890A-B639BFF8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7B2E4-4543-4A8C-895F-4E29915D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F8CEE-74C5-4AEF-A1EE-FF36B448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E830D-9845-4CB0-9360-C3355483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B7020-16F2-4009-894A-78A6D837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7BA32-4CF1-4846-9B4B-A4D3F229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3B08B-3730-4BB7-A68A-C2531BF7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4E92A-1A09-4762-BE86-BF4E5AD5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ED41F-92C5-4633-B169-DF5828BA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1081B-8497-40F1-AB3F-EB42DD33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C40-5633-46C5-98CD-5E615F93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6A79-8B21-4AAC-A357-377028BE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B061-AA48-4979-8D3E-D08E8D7A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EF5D-CAB5-4BBD-9D32-7C39AABE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18FD-6457-4D5D-9BF2-305AD185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746D-1852-4AAC-8C19-6B517877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C222-64C9-4D0A-A94A-E668415C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0D26-9C9B-448A-8043-AF7592ED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1089-86E0-4027-A2D0-E42A0964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230C-828D-4DD9-AF45-8F29962B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5886-A4CA-4B76-8884-64B3217A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9CDC-613F-48C3-8281-038A5C93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F11C-5B22-45E6-A882-E3E2B04D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AC60-1FB8-4F1A-8670-098358B6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C5BC-C24D-4264-ACBD-13658E55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18A04-DD66-4791-B415-7FDC54E1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C0DA6-5F18-414E-8731-527B0920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5457A-64EB-4091-A1D0-50F25B62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4352A-DFB6-43EF-8BB3-9A705585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5E0FE-C421-485B-BFBE-2BB69FD8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517-96CE-4E92-AD36-93805405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12227-8753-420B-9673-FF300EE0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74F1F-1E1B-464F-B723-3814ADB3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BDDD6-E90B-4D06-BB99-53BD4681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D4498-4C71-49E0-85FC-1EEC7FAA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98554-E485-49E8-807F-A32D9DEC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A7993-00DA-4478-AFE3-F177572F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91450-C0D1-490B-A6FE-CA9FA643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93ACF-AF83-498D-9A2B-0429417E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1EF3F-793C-4F6A-8C35-C24B7A31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394B3-1901-41AA-B493-D493F3D3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F2A-C226-4D4C-A511-09E6DA48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3CA88-5ADB-4FA7-9689-698ADD34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D5EF3-611B-4B2C-BB89-7ABD2B6F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695C5-D241-4BD8-BE37-3D2E7A39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6CA36-3ED1-4E7E-A661-925D6038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6DC43-A19E-4A9F-8478-3DD4EE09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2133B-9804-43F5-88B9-AAF2EFED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77934-F9F0-49DA-8555-FBDF5AE3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4EEE0-DB67-444E-879C-FE3C82C4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39C0D-9BA9-476B-9431-772C0E2D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FE704-8CE6-44CA-8596-0CDC0AA3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18B8-90CF-434A-B714-941E7874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92190-FC7A-4097-84A3-29C97A69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871A3-35EA-4C7D-B516-5E5F5549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275B1-C8F9-4E67-93A1-D269863D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2F6DB-835D-4427-B071-C92CF908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BD08F-BFE5-4772-B244-A7C8B9A3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BB69B-81FD-49F8-804E-C5675403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B26D5-DCDD-40C3-A338-FB8265DA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CDD4D-05FD-40FC-A152-26B1D825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B8063-FE06-4711-B899-0C08F703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433D3-1149-409D-BA07-B5EB5A3A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B828-EBF5-47A7-99E7-8FC7E13B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25895-395A-4369-BCC3-3B2659BD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403ED-425F-40FF-8FD4-2F187311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A063B-C03E-4CB4-B861-92E10512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C0E07-5BDB-4537-8344-871DD1CB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2490F-4B58-4007-B9A3-A4CE2A7D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B8F18-12C2-4BD6-8FA0-BDAA37DF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8F218-21A9-4CBE-86E3-9E03E062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3FC4E-A05A-4654-BA08-689BE2DB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BCFA3-264A-4091-929E-95E3BCBE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AC11D-F68C-451F-8EE5-1CF6417C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8675-8EC8-4899-8F98-DE8F828C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06A64-EBC6-4E13-BF1E-4BCD1819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09C04-1779-41FC-86D4-1B93FB8F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D2DCE-6386-49C8-8D95-1264891A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83D43-1C28-4D80-BC8F-4E036BD7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B14A6-9885-4451-9E22-75946E29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D1043-F77A-46D0-864F-D0205B09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CA375-2568-4E6B-B0ED-4B587BFC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F646B-0008-443B-8D89-49F1FF29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A3FA1-DCA6-42A0-AADE-22B567C2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66BC5-7EAB-4B90-89FB-DAB70616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47B4-E7F2-47F2-A37E-4C99179B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70DEA-39FB-4667-8274-194DA946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0F13B-9653-46F0-B135-77EA46F5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C7109-30C7-4BC7-8DB3-74C96595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BD23A-BCD5-4398-AF5C-7FB55589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A5419-19F4-4A6F-BBA3-98B57DF3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A8AAC-2BC5-4ACA-91F5-5FBD83D0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9F147-CF88-4D60-8F50-AC14094C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B89EB-1302-435C-8CC2-85597C35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67F97-9B92-4AB7-BB5D-91724262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3D2F8-2CC3-4BBF-A34A-F8D7D682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CB72-32BE-4361-BD78-9321FE2C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8D664-D773-40A0-9337-AED3753D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FB66F-FBB1-4103-BEB7-E0044435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4AB87-36B3-48BE-B6AC-A94AEFD6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109F9-60C7-4996-A9DD-2A9BF37B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82B92-6AD5-4E0E-B22B-BD26A9C8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10753-935B-48DA-A5DA-BEE8360B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1AFC3-4B2A-4836-8E9A-7A7DD4D0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E040C-ADB2-44B9-8C16-581E63FA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F03A6-809A-419C-A800-F29981B6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0F6C5-582E-4B40-A4CA-EF8D9B36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7A92-906C-4F61-A4D7-527FAD45EA4C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D396-2AAF-4BBD-B50B-6B6C9F851829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C6B8-B9A0-452B-853A-C6477E6B9690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AD9A-50E9-454A-9075-6C336DFA687F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F495-54C2-4BA1-805E-091678C693DA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E430-449E-40E3-AF2F-6D4BB12BC853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E783-181D-476D-A582-775B14140F84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A067-9062-4952-B4B6-9AB7713975F1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5C2A-1622-46F2-B351-164718DB8295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earn.genetics.utah.edu/content/begin/tour" TargetMode="Externa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What is a Trait?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Genetics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lease open the “Trait Wkst” on the wiki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ave the worksheet to notability so you can fill it out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Trait = Earlobe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33520" y="5866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64920" indent="-3261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Garamond"/>
              </a:rPr>
              <a:t>Some people have earlobes that are attached directly to the face (B).  Others have lobes that hang more freely (A)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457200" y="1600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b0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nnected or detached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12" name="Picture 2" descr="http://www.windows2universe.org/earth/Life/images/earlobes.jpg"/>
          <p:cNvPicPr/>
          <p:nvPr/>
        </p:nvPicPr>
        <p:blipFill>
          <a:blip r:embed="rId1"/>
          <a:stretch/>
        </p:blipFill>
        <p:spPr>
          <a:xfrm>
            <a:off x="3124080" y="2209680"/>
            <a:ext cx="2286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Trait = Freckle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52280" y="56383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64920" indent="-326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aramond"/>
              </a:rPr>
              <a:t>Freckles vary in severity, but some people have them and others do no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457200" y="1322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b0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reckles or no freckles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16" name="Picture 2" descr="http://llerrah.com/images/freckles.jpg"/>
          <p:cNvPicPr/>
          <p:nvPr/>
        </p:nvPicPr>
        <p:blipFill>
          <a:blip r:embed="rId1"/>
          <a:stretch/>
        </p:blipFill>
        <p:spPr>
          <a:xfrm>
            <a:off x="2190600" y="193212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Garamond"/>
              </a:rPr>
              <a:t>Check to make sure you have each of the following filled out:</a:t>
            </a:r>
            <a:endParaRPr b="0" lang="en-US" sz="4100" spc="-1" strike="noStrike">
              <a:solidFill>
                <a:srgbClr val="ffffff"/>
              </a:solidFill>
              <a:latin typeface="Calisto MT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457200" y="1981080"/>
          <a:ext cx="8229600" cy="4516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b60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y phenotyp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b606"/>
                    </a:solidFill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i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humb domin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ongue roll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oe o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Hitchhiker</a:t>
                      </a:r>
                      <a:r>
                        <a:rPr b="0" lang="ja-JP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’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 thum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Finger spr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arlob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Freck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Find your trait twin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Using your t-chart, walk around the room and try to find someone with the exact same list of traits as you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When you find someone, sit down next to each othe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Reflection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ere you able to find a partner?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lvl="1" marL="671760" indent="-32976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Garamond"/>
              </a:rPr>
              <a:t>If so: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lvl="2" marL="1014120" indent="-3420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aramond"/>
              </a:rPr>
              <a:t>What other traits do you have in common?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2" marL="1014120" indent="-3420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aramond"/>
              </a:rPr>
              <a:t>What are some traits that you do not share?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2" marL="1014120" indent="-3420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aramond"/>
              </a:rPr>
              <a:t>Why are you not exactly the same as this person?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71760" indent="-32976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Garamond"/>
              </a:rPr>
              <a:t>If not: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lvl="2" marL="1014120" indent="-3420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aramond"/>
              </a:rPr>
              <a:t>What was the closest you got to finding a partner (how many traits did you share out of 8)?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2" marL="1014120" indent="-3420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aramond"/>
              </a:rPr>
              <a:t>Why was it difficult to find someone with the exact same traits?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2" marL="1014120" indent="-3420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aramond"/>
              </a:rPr>
              <a:t>Where would you look to find someone who shared all of these traits?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Trait = Eye Color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595959"/>
                </a:solidFill>
                <a:latin typeface="Garamond"/>
              </a:rPr>
              <a:t>Eye color</a:t>
            </a:r>
            <a:r>
              <a:rPr b="0" lang="en-US" sz="2200" spc="-1" strike="noStrike">
                <a:solidFill>
                  <a:srgbClr val="595959"/>
                </a:solidFill>
                <a:latin typeface="Garamond"/>
              </a:rPr>
              <a:t> is an inherited trait influenced by more than one </a:t>
            </a:r>
            <a:r>
              <a:rPr b="0" i="1" lang="en-US" sz="2200" spc="-1" strike="noStrike">
                <a:solidFill>
                  <a:srgbClr val="595959"/>
                </a:solidFill>
                <a:latin typeface="Garamond"/>
              </a:rPr>
              <a:t>gene</a:t>
            </a:r>
            <a:r>
              <a:rPr b="0" lang="en-US" sz="2200" spc="-1" strike="noStrike">
                <a:solidFill>
                  <a:srgbClr val="595959"/>
                </a:solidFill>
                <a:latin typeface="Garamond"/>
              </a:rPr>
              <a:t>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457200" y="12952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b0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color are your eyes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Brown, Blue, Green, Hazel, etc.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26" name="Picture 7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1743120" cy="13525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"/>
          <p:cNvPicPr/>
          <p:nvPr/>
        </p:nvPicPr>
        <p:blipFill>
          <a:blip r:embed="rId2"/>
          <a:stretch/>
        </p:blipFill>
        <p:spPr>
          <a:xfrm>
            <a:off x="6934320" y="2895480"/>
            <a:ext cx="1771560" cy="1333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"/>
          <p:cNvPicPr/>
          <p:nvPr/>
        </p:nvPicPr>
        <p:blipFill>
          <a:blip r:embed="rId3"/>
          <a:stretch/>
        </p:blipFill>
        <p:spPr>
          <a:xfrm>
            <a:off x="2895480" y="2895480"/>
            <a:ext cx="33530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b0f0"/>
                </a:solidFill>
                <a:uFillTx/>
                <a:latin typeface="Calisto MT"/>
                <a:hlinkClick r:id="rId1"/>
              </a:rPr>
              <a:t>Genetics Tour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Traits are determined by our genes.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Genes are determined by our DNA.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NA is an instruction manual for our bodies, a gene is an individual instruction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DNA is contained in our chromosomes.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hromosomes are the package that contains the instructions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Trai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838080" y="144756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A genetically-determined characteristic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75" name="Picture 7" descr="http://img.poptower.com/pic-35140/stefanie-scott.jpg?d=600"/>
          <p:cNvPicPr/>
          <p:nvPr/>
        </p:nvPicPr>
        <p:blipFill>
          <a:blip r:embed="rId1"/>
          <a:stretch/>
        </p:blipFill>
        <p:spPr>
          <a:xfrm>
            <a:off x="1828800" y="2209680"/>
            <a:ext cx="2438280" cy="36576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1"/>
          <p:cNvSpPr/>
          <p:nvPr/>
        </p:nvSpPr>
        <p:spPr>
          <a:xfrm>
            <a:off x="1981080" y="617220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anything about you that is determined by your DNA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3360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Chromosomes are contained in our cells.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0" name="AutoShape 4"/>
          <p:cNvSpPr/>
          <p:nvPr/>
        </p:nvSpPr>
        <p:spPr>
          <a:xfrm>
            <a:off x="57240" y="-584280"/>
            <a:ext cx="1590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41" name="Picture 7" descr="https://encrypted-tbn1.google.com/images?q=tbn:ANd9GcQDp_SetUD7K9IioXZY8teMpHLtBJnWgNsnIwHMN2_65xkTDeJhzQ"/>
          <p:cNvPicPr/>
          <p:nvPr/>
        </p:nvPicPr>
        <p:blipFill>
          <a:blip r:embed="rId1"/>
          <a:stretch/>
        </p:blipFill>
        <p:spPr>
          <a:xfrm>
            <a:off x="380880" y="1219320"/>
            <a:ext cx="85201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Karyotype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  <a:ea typeface="ＭＳ 明朝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lueprint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  <a:ea typeface="ＭＳ 明朝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of our chromosomes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Female Karyotype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445" name="Picture 3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324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Male Karyotype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rcRect l="0" t="10010" r="0" b="0"/>
          <a:stretch/>
        </p:blipFill>
        <p:spPr>
          <a:xfrm>
            <a:off x="1752480" y="1447920"/>
            <a:ext cx="556272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If there</a:t>
            </a:r>
            <a:r>
              <a:rPr b="0" lang="ja-JP" sz="6000" spc="-1" strike="noStrike">
                <a:solidFill>
                  <a:srgbClr val="ffffff"/>
                </a:solidFill>
                <a:latin typeface="Garamond"/>
                <a:ea typeface="ＭＳ 明朝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s a </a:t>
            </a:r>
            <a:r>
              <a:rPr b="0" lang="ja-JP" sz="6000" spc="-1" strike="noStrike">
                <a:solidFill>
                  <a:srgbClr val="ffffff"/>
                </a:solidFill>
                <a:latin typeface="Garamond"/>
                <a:ea typeface="ＭＳ 明朝"/>
              </a:rPr>
              <a:t>“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0" lang="ja-JP" sz="6000" spc="-1" strike="noStrike">
                <a:solidFill>
                  <a:srgbClr val="ffffff"/>
                </a:solidFill>
                <a:latin typeface="Garamond"/>
                <a:ea typeface="ＭＳ 明朝"/>
              </a:rPr>
              <a:t>”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, it</a:t>
            </a:r>
            <a:r>
              <a:rPr b="0" lang="ja-JP" sz="6000" spc="-1" strike="noStrike">
                <a:solidFill>
                  <a:srgbClr val="ffffff"/>
                </a:solidFill>
                <a:latin typeface="Garamond"/>
                <a:ea typeface="ＭＳ 明朝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s a GUY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XX = Female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XY = Male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(Boys are weird!)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Karyotype with Down</a:t>
            </a:r>
            <a:r>
              <a:rPr b="0" lang="ja-JP" sz="3600" spc="-1" strike="noStrike">
                <a:solidFill>
                  <a:srgbClr val="ffffff"/>
                </a:solidFill>
                <a:latin typeface="Garamond"/>
                <a:ea typeface="ＭＳ 明朝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 Syndrom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Trisomy 21)</a:t>
            </a:r>
            <a:endParaRPr b="0" lang="en-US" sz="3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451" name="Picture 5" descr=""/>
          <p:cNvPicPr/>
          <p:nvPr/>
        </p:nvPicPr>
        <p:blipFill>
          <a:blip r:embed="rId1"/>
          <a:srcRect l="0" t="23604" r="0" b="23604"/>
          <a:stretch/>
        </p:blipFill>
        <p:spPr>
          <a:xfrm>
            <a:off x="739800" y="2770200"/>
            <a:ext cx="76629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Diagram 1" descr=""/>
          <p:cNvPicPr/>
          <p:nvPr/>
        </p:nvPicPr>
        <p:blipFill>
          <a:blip r:embed="rId1"/>
          <a:stretch/>
        </p:blipFill>
        <p:spPr>
          <a:xfrm>
            <a:off x="517680" y="317520"/>
            <a:ext cx="809604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Can you think of more?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ere are some examples…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Trait = Dimple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0880" y="16761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Dimples or no dimples?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2895480" cy="20257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5"/>
          <p:cNvSpPr/>
          <p:nvPr/>
        </p:nvSpPr>
        <p:spPr>
          <a:xfrm>
            <a:off x="838080" y="51814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dentations in your cheek when you smile are called dimples, and these are affected by your gene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Trait = Thumb Dominance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Garamond"/>
              </a:rPr>
              <a:t>Right-thumbed or left thumbed?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772240" cy="23796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666800" y="4984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eft-thumbed                          Right-thumb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457200" y="556272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hen you clasp your hands together and interlock your fingers, genetics decide which position is most natural for you.  Look for the thumb that is on top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Trait = Tongue rolling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5334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Garamond"/>
              </a:rPr>
              <a:t>Tongue rolling is a genetic trait certain people have that allows them to curl their tongue. 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3810240" cy="304812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"/>
          <p:cNvSpPr/>
          <p:nvPr/>
        </p:nvSpPr>
        <p:spPr>
          <a:xfrm>
            <a:off x="457200" y="1371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b0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an roll tongue or can</a:t>
            </a:r>
            <a:r>
              <a:rPr b="0" lang="ja-JP" sz="3200" spc="-1" strike="noStrike">
                <a:solidFill>
                  <a:srgbClr val="000000"/>
                </a:solidFill>
                <a:latin typeface="Garamond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 roll tongue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Trait = Toe order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480024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Garamond"/>
              </a:rPr>
              <a:t>Some people have toes that decrease (get smaller) in size from the big toe to the small one, while other people have a second toe that is longer than their big toe. 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95" name="Picture 4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2743200" cy="2249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2868840" cy="223524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3"/>
          <p:cNvSpPr/>
          <p:nvPr/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b0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ig toe or second toe?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ich is longer?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Trait = Hitchhiker</a:t>
            </a:r>
            <a:r>
              <a:rPr b="0" lang="ja-JP" sz="4600" spc="-1" strike="noStrike">
                <a:solidFill>
                  <a:srgbClr val="ffffff"/>
                </a:solidFill>
                <a:latin typeface="Garamond"/>
                <a:ea typeface="ＭＳ 明朝"/>
              </a:rPr>
              <a:t>’</a:t>
            </a: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s thumb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99" name="Picture 7" descr=""/>
          <p:cNvPicPr/>
          <p:nvPr/>
        </p:nvPicPr>
        <p:blipFill>
          <a:blip r:embed="rId1"/>
          <a:stretch/>
        </p:blipFill>
        <p:spPr>
          <a:xfrm>
            <a:off x="1898640" y="1976400"/>
            <a:ext cx="2224080" cy="31431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"/>
          <p:cNvPicPr/>
          <p:nvPr/>
        </p:nvPicPr>
        <p:blipFill>
          <a:blip r:embed="rId2"/>
          <a:stretch/>
        </p:blipFill>
        <p:spPr>
          <a:xfrm>
            <a:off x="5105520" y="1954080"/>
            <a:ext cx="2367000" cy="32004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9"/>
          <p:cNvSpPr/>
          <p:nvPr/>
        </p:nvSpPr>
        <p:spPr>
          <a:xfrm>
            <a:off x="1066680" y="548640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se two images show the difference between a regular thumb and a "Hitchhiker</a:t>
            </a:r>
            <a:r>
              <a:rPr b="1" lang="ja-JP" sz="1800" spc="-1" strike="noStrike">
                <a:solidFill>
                  <a:srgbClr val="000000"/>
                </a:solidFill>
                <a:latin typeface="Garamond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 thumb,</a:t>
            </a:r>
            <a:r>
              <a:rPr b="1" lang="ja-JP" sz="1800" spc="-1" strike="noStrike">
                <a:solidFill>
                  <a:srgbClr val="000000"/>
                </a:solidFill>
                <a:latin typeface="Garamond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which, because of a genetic difference, can bend further backwards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2158920" y="4753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itchhiker</a:t>
            </a:r>
            <a:r>
              <a:rPr b="0" lang="ja-JP" sz="1800" spc="-1" strike="noStrike">
                <a:solidFill>
                  <a:srgbClr val="000000"/>
                </a:solidFill>
                <a:latin typeface="Garamond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 Thumb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5638680" y="4768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egular Thumb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457200" y="1332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00b0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itchhiker</a:t>
            </a:r>
            <a:r>
              <a:rPr b="0" lang="ja-JP" sz="2800" spc="-1" strike="noStrike">
                <a:solidFill>
                  <a:srgbClr val="000000"/>
                </a:solidFill>
                <a:latin typeface="Garamond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 thumb or regular thumb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Trait = Finger spread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040" y="48765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36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aramond"/>
              </a:rPr>
              <a:t>Live long and prosper! Some people can easily make this sign, made famous by Spock from Star Trek.  Other people find it very difficul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1"/>
          <a:srcRect l="0" t="0" r="50019" b="0"/>
          <a:stretch/>
        </p:blipFill>
        <p:spPr>
          <a:xfrm>
            <a:off x="3295800" y="2209680"/>
            <a:ext cx="2323800" cy="24019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3"/>
          <p:cNvSpPr/>
          <p:nvPr/>
        </p:nvSpPr>
        <p:spPr>
          <a:xfrm>
            <a:off x="457200" y="1600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b0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an spread or can</a:t>
            </a:r>
            <a:r>
              <a:rPr b="0" lang="ja-JP" sz="3200" spc="-1" strike="noStrike">
                <a:solidFill>
                  <a:srgbClr val="000000"/>
                </a:solidFill>
                <a:latin typeface="Garamond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 spread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3:10:36Z</dcterms:created>
  <dc:creator>LLEET</dc:creator>
  <dc:description/>
  <dc:language>en-US</dc:language>
  <cp:lastModifiedBy>User</cp:lastModifiedBy>
  <cp:lastPrinted>2011-12-05T18:55:40Z</cp:lastPrinted>
  <dcterms:modified xsi:type="dcterms:W3CDTF">2014-01-13T23:00:51Z</dcterms:modified>
  <cp:revision>30</cp:revision>
  <dc:subject/>
  <dc:title>Slide 1</dc:title>
</cp:coreProperties>
</file>